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7EF-CEDE-49D5-A9EA-0D666198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68F-DED4-4908-AC5E-273F247B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395-41E1-4B1B-8252-C6923CC6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37F-6928-4731-A52E-A31D9350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CF23-0C4C-4768-B185-CCD5F12B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E37D-8CE6-49A6-9651-17FC3698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D212-DFE5-47FD-B11D-62C30F67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283D-7CEE-40EE-AF54-CFBBA52F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A463-F7C2-4F1A-9A5C-411F755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5C64-4E4E-4A86-9451-BB91FA6F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9340-96F1-46DF-AB98-200BA57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B7C-D719-4319-85B4-B54059E8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140-DCD3-420D-AB98-AC0A56E8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4881-71C0-48DA-8495-43D86C9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99F3-DDE7-42DB-8D92-7BE8474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40AB-ED41-4A74-91E6-AE565886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5597-896E-480F-B0C6-8A64EA04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E421-48D7-46BF-9269-213474B1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2A9A-43DA-4D6F-A938-5DF2A6F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3BE2-6D9C-4210-8E2D-DB9224C2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A127-6774-4349-BD2B-973B81D0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353D-E68F-4F8D-93A8-9C33DC6A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F23-B323-47F9-A110-FAA6065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B9CE-2F47-46AD-B796-FC787AAE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A0E2-9CF2-4FF8-BA93-82234E1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06A4-D54D-45C8-B28C-AC6EC31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8289-7D72-40CC-81C7-8A9CC18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5E76F-8C9A-49A0-BDF1-001EA105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C2110-D722-48FB-BDB6-F882A673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5826-E324-4D8D-B9D0-19ACC74C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97011-4AD7-4754-A9E5-21B4860D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38628-7BE1-4153-AA40-050B90D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4EB5A-3FAD-4ED1-A890-2436583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570-10AD-487B-9E1B-9CA09445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521A-1F33-41C8-8A32-C3E4427A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042F-56A8-4138-9A20-9A10B242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3150-BACA-417A-9B0D-E04E292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3F88-02D7-400D-A765-FF671397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7AF8B-47D6-43C2-9106-F5B662A8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F7DF-CA7F-4AAB-A149-2FC3A2E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4AF6-D6DE-4479-9C39-6D61F531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98C9-FF04-4893-B8A1-D0D9F585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AB3E2-D0F9-4824-B3EB-64E3827C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DFC4-5632-48D9-B3C1-B109D020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392-DCA2-4AE1-AEA8-21B57143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56E7-ABA9-462D-85B2-803026A5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B8108-3E58-4E7C-825A-41248E4F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5882E-47B0-4420-8CFD-FB70F730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2D3A-AD6D-49C0-B031-0D7F2E55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C12F2-65E3-4D34-A189-F4E35FB2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BA0A-14B4-4E55-A20A-28A34ED6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0D7F7-9337-40E6-9DEC-3D36C2F0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CC1C8-66D2-4206-841C-463340EC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2A3A1-49D7-4FB8-9B01-D00A3FB5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CDD93-17DB-451B-B07E-57C7900E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DA3-CBCB-440E-BD01-40C42C29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D101F-E6D8-49A2-A6D1-04E52C2B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6CF3-C3AA-4BD8-B8A5-4A93593D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68399-8940-4195-BB4F-1B3354DB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76A07-3264-4FD5-B07F-95B1C4F1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81ED7-6D6C-464A-B4AA-2E8D8973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4C89A-2D1B-442D-8BEA-900AC09E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EE401-635F-4761-AD30-9B81D09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A245-C30D-48FB-8FE0-1F314C49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EC70-A13D-4CC8-9C0B-1B3912AB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9976-54CE-428B-89AB-E833111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31C-8183-45A4-962C-65949719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16EA-A634-43D7-893A-581CE06B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53799-9F2A-43C5-AFD8-8F14C1E2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40D9-D8EB-4FAB-B097-F04E3E1E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336-28AD-4CC9-830E-922AAA47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AE6-6A93-4D98-929B-CB3C82C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107A-E8CA-4A86-B98C-3D6ECE74F15C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10 - Στρογγυλεμένο ορθογώνιο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11 - Ορθογώνιο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12 - Ορθογώνιο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14 - Ορθογώνιο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005-2EFF-4DD1-A487-F95E55A3040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10 - Στρογγυλεμένο ορθογώνιο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- Στρογγυλεμένο ορθογώνιο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11 - Ορθογώνιο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12 - Ορθογώνιο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14 - Ορθογώνιο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02A3-6999-448B-9468-49E453A2071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9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10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61EF-38F4-4C88-B04D-97CB820F99B6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9 - Ορθογώνιο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10 - Ορθογώνιο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11 - Ορθογώνιο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9E7A-9F1E-48F5-A590-D885A3EA66D8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8 - Ορθογώνιο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7 - Στρογγυλεμένο ορθογώνιο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5480"/>
            <a:ext cx="150876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F7B9-D974-4C5C-AEFF-C3C8BE304AF0}" type="slidenum">
              <a:rPr b="0" lang="el-G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501040" cy="9698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2329"/>
                </a:solidFill>
                <a:latin typeface="Cambria"/>
              </a:rPr>
              <a:t>GRAFFITI, </a:t>
            </a:r>
            <a:r>
              <a:rPr b="0" lang="el-GR" sz="4000" spc="-1" strike="noStrike">
                <a:solidFill>
                  <a:srgbClr val="062329"/>
                </a:solidFill>
                <a:latin typeface="Cambria"/>
              </a:rPr>
              <a:t>Η ΤΕΧΝΗ ΤΟΥ ΔΡΟΜΟΥ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Μορφωτικό επίπεδο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294" name="Object 3"/>
          <p:cNvGraphicFramePr/>
          <p:nvPr/>
        </p:nvGraphicFramePr>
        <p:xfrm>
          <a:off x="1434960" y="1569960"/>
          <a:ext cx="6764400" cy="43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569960"/>
                    <a:ext cx="67644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Ηλικιακή ομάδα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1347840" y="2314440"/>
          <a:ext cx="6905520" cy="28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7840" y="2314440"/>
                    <a:ext cx="6905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Είναι νόμιμο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566720" y="1719360"/>
          <a:ext cx="6467760" cy="40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1719360"/>
                    <a:ext cx="646776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Γνωρίζετε τι είναι </a:t>
            </a:r>
            <a:r>
              <a:rPr b="0" lang="en-US" sz="4000" spc="-1" strike="noStrike">
                <a:solidFill>
                  <a:srgbClr val="3333ff"/>
                </a:solidFill>
                <a:latin typeface="Calibri"/>
              </a:rPr>
              <a:t>graffiti</a:t>
            </a: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3" name="Object 7"/>
          <p:cNvGraphicFramePr/>
          <p:nvPr/>
        </p:nvGraphicFramePr>
        <p:xfrm>
          <a:off x="457200" y="1434960"/>
          <a:ext cx="8197920" cy="38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34960"/>
                    <a:ext cx="81979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Ομορφαίνει το αστικό τοπίο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6" name="Object 3"/>
          <p:cNvGraphicFramePr/>
          <p:nvPr/>
        </p:nvGraphicFramePr>
        <p:xfrm>
          <a:off x="1295280" y="1633680"/>
          <a:ext cx="701064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33680"/>
                    <a:ext cx="701064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Είναι μορφή έκφρασης συναισθημάτων των δημιουργών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9" name="Object 3"/>
          <p:cNvGraphicFramePr/>
          <p:nvPr/>
        </p:nvGraphicFramePr>
        <p:xfrm>
          <a:off x="1114560" y="1957320"/>
          <a:ext cx="737208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957320"/>
                    <a:ext cx="737208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Θα επιθυμούσα να είχα ένα σε έναν άδειο τοίχο του σπιτιού μου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1405080" y="1843200"/>
          <a:ext cx="6791040" cy="37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843200"/>
                    <a:ext cx="67910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Οι δημιουργοί του </a:t>
            </a:r>
            <a:r>
              <a:rPr b="0" lang="en-US" sz="3600" spc="-1" strike="noStrike">
                <a:solidFill>
                  <a:srgbClr val="3333ff"/>
                </a:solidFill>
                <a:latin typeface="Calibri"/>
              </a:rPr>
              <a:t>graffiti </a:t>
            </a:r>
            <a:r>
              <a:rPr b="0" lang="el-GR" sz="3600" spc="-1" strike="noStrike">
                <a:solidFill>
                  <a:srgbClr val="3333ff"/>
                </a:solidFill>
                <a:latin typeface="Calibri"/>
              </a:rPr>
              <a:t>ακολουθούν κανόνες δεοντολογίας;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1090440" y="1957320"/>
          <a:ext cx="7420320" cy="35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1957320"/>
                    <a:ext cx="742032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Είναι βανδαλισμός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18" name="Object 3"/>
          <p:cNvGraphicFramePr/>
          <p:nvPr/>
        </p:nvGraphicFramePr>
        <p:xfrm>
          <a:off x="988920" y="1457280"/>
          <a:ext cx="6910560" cy="469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457280"/>
                    <a:ext cx="691056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33ff"/>
                </a:solidFill>
                <a:latin typeface="Calibri"/>
              </a:rPr>
              <a:t>Πρέπει να νομιμοποιηθεί;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1231920" y="1447920"/>
          <a:ext cx="71373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447920"/>
                    <a:ext cx="713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072200" cy="734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Η εξελικτική πορεία της εργασίας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6800" y="2428560"/>
            <a:ext cx="790092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άλυση θέματος σε επιμέρους παραρτήματα.</a:t>
            </a:r>
            <a:r>
              <a:rPr b="0" lang="el-GR" sz="2000" spc="-1" strike="noStrike">
                <a:solidFill>
                  <a:srgbClr val="062329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ιαχωρισμός των μαθητών σε 4 ομάδες και επιλογή θέματος για κάθε ομάδα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Αναζήτηση και αξιολόγηση αξιόπιστων και μη πηγ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πληροφοριών, επεξεργασία και καταγραφή τους σε κείμενο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62329"/>
                </a:solidFill>
                <a:latin typeface="Cambria"/>
              </a:rPr>
              <a:t>Κατανομή των ομάδων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62329"/>
                </a:solidFill>
                <a:latin typeface="Cambria"/>
              </a:rPr>
              <a:t>Ομάδα 1</a:t>
            </a:r>
            <a:r>
              <a:rPr b="0" lang="el-GR" sz="22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2200" spc="-1" strike="noStrike">
                <a:solidFill>
                  <a:srgbClr val="062329"/>
                </a:solidFill>
                <a:latin typeface="Cambria"/>
              </a:rPr>
              <a:t>: Ιστορία του </a:t>
            </a:r>
            <a:r>
              <a:rPr b="0" lang="en-US" sz="22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0" lang="el-GR" sz="2200" spc="-1" strike="noStrike">
                <a:solidFill>
                  <a:srgbClr val="062329"/>
                </a:solidFill>
                <a:latin typeface="Cambria"/>
              </a:rPr>
              <a:t>Προέλευση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Βαγενάς Δημήτρη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αριοφύλη Χαρά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Λούκας Φίλιππο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Νότσικα Χρύσ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Σιαμαλέκα Ευτυχί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Ομάδα 2</a:t>
            </a:r>
            <a:r>
              <a:rPr b="0" lang="el-GR" sz="24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: Καλλιτέχνες του </a:t>
            </a:r>
            <a:r>
              <a:rPr b="0" lang="en-US" sz="2400" spc="-1" strike="noStrike">
                <a:solidFill>
                  <a:srgbClr val="062329"/>
                </a:solidFill>
                <a:latin typeface="Cambria"/>
              </a:rPr>
              <a:t>graffiti-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Τέχνη ή Βανδαλισμό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Δεμιρτζόγλου Ιωάνν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αρβέλης Νίκο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ασσελούρη Ιωάννα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Κοσκινάς Κώστα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62329"/>
                </a:solidFill>
                <a:latin typeface="Cambria"/>
              </a:rPr>
              <a:t>Μπάλλας Δημήτρης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Ομάδα 3</a:t>
            </a:r>
            <a:r>
              <a:rPr b="0" lang="el-GR" sz="17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: Οικονομία &amp; </a:t>
            </a:r>
            <a:r>
              <a:rPr b="0" lang="en-US" sz="1700" spc="-1" strike="noStrike">
                <a:solidFill>
                  <a:srgbClr val="062329"/>
                </a:solidFill>
                <a:latin typeface="Cambria"/>
              </a:rPr>
              <a:t>graffiti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Βασδέκη Γεωργία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Σήτα Βασιλική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Συμεωνίδης Άγγελο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Ομάδα 4</a:t>
            </a:r>
            <a:r>
              <a:rPr b="0" lang="el-GR" sz="1700" spc="-1" strike="noStrike" baseline="30000">
                <a:solidFill>
                  <a:srgbClr val="062329"/>
                </a:solidFill>
                <a:latin typeface="Cambria"/>
              </a:rPr>
              <a:t>η</a:t>
            </a:r>
            <a:r>
              <a:rPr b="0" lang="el-GR" sz="1700" spc="-1" strike="noStrike">
                <a:solidFill>
                  <a:srgbClr val="062329"/>
                </a:solidFill>
                <a:latin typeface="Cambria"/>
              </a:rPr>
              <a:t>: Θεματολογία-Είδη-4 στοιχεία-Νομιμότητα-Νομοθεσία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Μέρμηγκα Φωτεινή 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Μπότσολος Χρήστο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Πάνου Χρύσα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Παπαδημητρίου Κώστα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6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62329"/>
                </a:solidFill>
                <a:latin typeface="Cambria"/>
              </a:rPr>
              <a:t>Πρίντζης Παναγιώτης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4 στοιχεια(χιπ-χοπ)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eak Dance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χορός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RA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Djing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affit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6592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 u="sng">
                <a:solidFill>
                  <a:srgbClr val="464646"/>
                </a:solidFill>
                <a:uFillTx/>
                <a:latin typeface="Cambria"/>
              </a:rPr>
              <a:t>Νομοθεσία - νομιμότητα - ''τέχνη ή βανδαλισμός;''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 graffiti μπορεί να είναι είτε νόμιμα είτε παράνομα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Η επιλογή βρίσκεται καθαρά στα χέρια του καλλιτέχνη.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Το </a:t>
            </a:r>
            <a:r>
              <a:rPr b="0" lang="en-US" sz="3600" spc="-1" strike="noStrike">
                <a:solidFill>
                  <a:srgbClr val="464646"/>
                </a:solidFill>
                <a:latin typeface="Cambria"/>
              </a:rPr>
              <a:t>graffiti</a:t>
            </a:r>
            <a:r>
              <a:rPr b="0" lang="el-GR" sz="3600" spc="-1" strike="noStrike">
                <a:solidFill>
                  <a:srgbClr val="464646"/>
                </a:solidFill>
                <a:latin typeface="Cambria"/>
              </a:rPr>
              <a:t> στην Ελλάδα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μφανίστηκε γύρω στο 1986 αρχικά με πολύχρωμα σχέδια και μηνύματα πάνω στα βαγόνια του ηλεκτρικού και των τρένων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Δεν αποτελεί έκφραση του περιθωρίο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mbria"/>
              </a:rPr>
              <a:t>Ακριβά σπρέϋ            ακριβό χόμπ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5 - Ραβδωτό δεξιό βέλος"/>
          <p:cNvSpPr/>
          <p:nvPr/>
        </p:nvSpPr>
        <p:spPr>
          <a:xfrm>
            <a:off x="3214800" y="3214800"/>
            <a:ext cx="571320" cy="198360"/>
          </a:xfrm>
          <a:custGeom>
            <a:avLst/>
            <a:gdLst>
              <a:gd name="textAreaLeft" fmla="*/ 30960 w 571320"/>
              <a:gd name="textAreaRight" fmla="*/ 522000 w 571320"/>
              <a:gd name="textAreaTop" fmla="*/ 49320 h 198360"/>
              <a:gd name="textAreaBottom" fmla="*/ 149040 h 198360"/>
            </a:gdLst>
            <a:ahLst/>
            <a:rect l="textAreaLeft" t="textAreaTop" r="textAreaRight" b="textAreaBottom"/>
            <a:pathLst>
              <a:path w="571500" h="198437">
                <a:moveTo>
                  <a:pt x="0" y="49609"/>
                </a:moveTo>
                <a:lnTo>
                  <a:pt x="6201" y="49609"/>
                </a:lnTo>
                <a:lnTo>
                  <a:pt x="6201" y="148828"/>
                </a:lnTo>
                <a:lnTo>
                  <a:pt x="0" y="148828"/>
                </a:lnTo>
                <a:close/>
                <a:moveTo>
                  <a:pt x="12402" y="49609"/>
                </a:moveTo>
                <a:lnTo>
                  <a:pt x="24805" y="49609"/>
                </a:lnTo>
                <a:lnTo>
                  <a:pt x="24805" y="148828"/>
                </a:lnTo>
                <a:lnTo>
                  <a:pt x="12402" y="148828"/>
                </a:lnTo>
                <a:close/>
                <a:moveTo>
                  <a:pt x="31006" y="49609"/>
                </a:moveTo>
                <a:lnTo>
                  <a:pt x="472282" y="49609"/>
                </a:lnTo>
                <a:lnTo>
                  <a:pt x="472282" y="0"/>
                </a:lnTo>
                <a:lnTo>
                  <a:pt x="571500" y="99219"/>
                </a:lnTo>
                <a:lnTo>
                  <a:pt x="472282" y="198437"/>
                </a:lnTo>
                <a:lnTo>
                  <a:pt x="472282" y="148828"/>
                </a:lnTo>
                <a:lnTo>
                  <a:pt x="31006" y="148828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0040" y="24156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36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7176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φωτογραφικού υλικού από τοπικές δημιουργίες καλλιτεχνών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Λήψη συνέντευξης από καλλιτέχν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ύνταξη ερωτηματολογίων και συμπλήρωση τους από πολίτες διαφόρων ηλικιώ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l-GR" sz="4000" spc="-1" strike="noStrike" u="sng">
              <a:solidFill>
                <a:srgbClr val="3333ff"/>
              </a:solidFill>
              <a:uFillTx/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ταγραφή αποτελεσμάτων των ερωτηματολογίων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Δημιουργία </a:t>
            </a:r>
            <a:r>
              <a:rPr b="0" lang="en-US" sz="2400" spc="-1" strike="noStrike">
                <a:solidFill>
                  <a:srgbClr val="062329"/>
                </a:solidFill>
                <a:latin typeface="Cambria"/>
              </a:rPr>
              <a:t>graffiti </a:t>
            </a: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και βιντεοσκόπηση της διαδικασία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62329"/>
                </a:solidFill>
                <a:latin typeface="Cambria"/>
              </a:rPr>
              <a:t>Συγκέντρωση στατιστικών από τα ερωτηματολόγια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Έχετε δει </a:t>
            </a:r>
            <a:r>
              <a:rPr b="0" lang="en-US" sz="2800" spc="-1" strike="noStrike">
                <a:solidFill>
                  <a:srgbClr val="062329"/>
                </a:solidFill>
                <a:latin typeface="Calibri"/>
              </a:rPr>
              <a:t>graffiti </a:t>
            </a:r>
            <a:r>
              <a:rPr b="0" lang="el-GR" sz="2800" spc="-1" strike="noStrike">
                <a:solidFill>
                  <a:srgbClr val="062329"/>
                </a:solidFill>
                <a:latin typeface="Calibri"/>
              </a:rPr>
              <a:t>στην πόλη μας;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1" descr=""/>
          <p:cNvPicPr/>
          <p:nvPr/>
        </p:nvPicPr>
        <p:blipFill>
          <a:blip r:embed="rId2"/>
          <a:stretch/>
        </p:blipFill>
        <p:spPr>
          <a:xfrm>
            <a:off x="836640" y="3938760"/>
            <a:ext cx="3281400" cy="2192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2" name="Chart 6" descr=""/>
          <p:cNvPicPr/>
          <p:nvPr/>
        </p:nvPicPr>
        <p:blipFill>
          <a:blip r:embed="rId3"/>
          <a:stretch/>
        </p:blipFill>
        <p:spPr>
          <a:xfrm>
            <a:off x="-1079640" y="-219240"/>
            <a:ext cx="9875880" cy="708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1:07:22Z</dcterms:created>
  <dc:creator>user03</dc:creator>
  <dc:description/>
  <dc:language>en-US</dc:language>
  <cp:lastModifiedBy>intra</cp:lastModifiedBy>
  <dcterms:modified xsi:type="dcterms:W3CDTF">2013-01-21T19:37:32Z</dcterms:modified>
  <cp:revision>22</cp:revision>
  <dc:subject/>
  <dc:title>52</dc:title>
</cp:coreProperties>
</file>